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A24-B388-4B19-AB05-76F85830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EC98-5990-41A5-8E9C-EC2741EB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ADF-8186-41FE-A522-F6598911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5DB6-EC28-4B83-8FCD-2F74C73F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3BB-19C1-4CE6-88F5-1B1484C1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D3B-D15D-487A-8525-C22FCF4A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125-28AA-4B2F-96A5-D16BB022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40E-07EA-4036-9045-5DAA1AB5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596-34E0-4611-A819-CC2E59FD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8F2-CF50-46AF-A441-897597EC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D6A-0ADB-484A-9331-604C3937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ADE-0C6C-420B-B5AD-203F3D05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B7D4-0002-4203-BE19-5E92BB3CF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3505320" cy="20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50532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3429000" y="0"/>
          <a:ext cx="342900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0"/>
                    <a:ext cx="342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0" y="4648320"/>
          <a:ext cx="3505320" cy="206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48320"/>
                    <a:ext cx="350532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429000" y="4648320"/>
          <a:ext cx="3429000" cy="21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648320"/>
                    <a:ext cx="34290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28600" y="2209680"/>
          <a:ext cx="2666880" cy="2092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2209680"/>
                    <a:ext cx="26668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962520" y="2209680"/>
          <a:ext cx="2666880" cy="2092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62520" y="2209680"/>
                    <a:ext cx="26668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28600" y="6781680"/>
          <a:ext cx="2666880" cy="2092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6781680"/>
                    <a:ext cx="26668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962520" y="6781680"/>
          <a:ext cx="2666880" cy="2092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62520" y="6781680"/>
                    <a:ext cx="26668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7:46:24Z</dcterms:created>
  <dc:creator>Dina Winterton</dc:creator>
  <dc:description/>
  <dc:language>en-US</dc:language>
  <cp:lastModifiedBy>Dina Winterton</cp:lastModifiedBy>
  <dcterms:modified xsi:type="dcterms:W3CDTF">2009-04-13T18:36:19Z</dcterms:modified>
  <cp:revision>6</cp:revision>
  <dc:subject/>
  <dc:title>Slide 1</dc:title>
</cp:coreProperties>
</file>